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E861-06DE-4E86-8FE6-C26B93C7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EACD-DC15-49DC-B218-E97B768E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30B2-D191-44E8-A007-91FF1C25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F5D-0DDF-47EF-8395-0697F878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7763-A812-459A-82FC-D8E70129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72C1-1CEC-48EC-9BFB-FA2AE6EF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B16B-E121-4D1B-B6DE-4D3143C3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3230-B808-471C-BBCE-437EF136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0542-5161-4B00-A2CE-96C343D7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F586-9125-40C2-8CB9-2F6B4076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84CD-780C-47FE-BA09-EEC92E81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7665-A916-4521-A7BF-6497FA8B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60A7-C3DB-42FF-8611-047106A2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C44A-58BC-4EA3-94E4-E2EBE5FD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B8B3-16AD-40C3-BAC2-4DF24A14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69CA-F650-4E2C-A04A-ACE7E173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FF74-C6C9-4121-AC29-938CFFC3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BED19-13A2-4945-8698-0128E240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55153-4DC8-4EB9-850E-3898A401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78E89-6FA9-4FE7-8735-EC308A0A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F4E53-3649-4065-99F6-AC43E2AF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DCB09-3BDC-4F01-A673-4ACF2DC3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914F-DEA2-4996-9AA1-F436CD2F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D81353-DE18-41A9-8B67-68270186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8F05F-CADB-4A0B-B6A3-DE6F9ECB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0FDF7E-1C7B-41A7-981B-C4DCBD82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227C2-E892-47C8-8DCF-91C21F6B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A5B1F-8549-4694-AC7A-CEF65AF8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C4D88-7915-4AED-BD31-CDE93A1A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99CF15-414B-4C7E-863D-E59229BC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C0027-6AF3-4006-8D0A-B4DB568F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29A3A-23DD-4821-8C00-108BD2D2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01DEC-C3D5-4BCE-9D88-587F6E20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7703-A6E2-440F-A4CB-65F3F3B3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5FED4-BA2E-4DB2-91F1-2A399C2F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1E2A4-694F-46B3-95BF-B0E46DCF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5E619-22C0-476E-9485-DCF6DF15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01270-C752-426F-AEA4-61CD2521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908FA-8956-4808-A6B3-D401E715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26DFF-237E-451D-876F-447587BA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CA171-9098-494C-9DB1-40D5A1EF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AA836-4325-4576-9DE6-81130F24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80EFA-57E1-4A6F-9474-F5C2F772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57DD-E982-48CE-A9DF-6F7FBD18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BF0C-6661-42ED-821B-BF40ED78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E7B6-2253-4DDE-A0FB-C926CDF4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6507-E420-4C97-A45D-544BDA10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E06E-5354-48F8-9C55-AF610207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F67E-6294-4330-805A-CC89D101C478}" type="slidenum">
              <a:rPr b="0" lang="es-E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02B0-B270-4B3C-8EF8-5E48F46795AC}" type="slidenum">
              <a:rPr b="0" lang="es-E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D69B-2556-4ECF-8253-4C363817FACE}" type="slidenum">
              <a:rPr b="0" lang="es-E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BDFA-422C-402E-A394-E003D898465F}" type="slidenum">
              <a:rPr b="0" lang="es-E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4c600"/>
                </a:solidFill>
                <a:latin typeface="Century Gothic"/>
              </a:rPr>
              <a:t>CIENCIAS DE LA TIERRA Y MEDIO AMBIENTE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24242"/>
                </a:solidFill>
                <a:latin typeface="Century Gothic"/>
              </a:rPr>
              <a:t>CURSO 2013-2014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24242"/>
                </a:solidFill>
                <a:latin typeface="Century Gothic"/>
              </a:rPr>
              <a:t>Inmaculada Tallón Robert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24242"/>
                </a:solidFill>
                <a:latin typeface="Century Gothic"/>
              </a:rPr>
              <a:t>I.E.S Ignacio Ellacuría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24242"/>
                </a:solidFill>
                <a:latin typeface="Century Gothic"/>
              </a:rPr>
              <a:t>Alcalá de Henares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PRESENTACIÓ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e3d2d"/>
                </a:solidFill>
                <a:latin typeface="Century Gothic"/>
              </a:rPr>
              <a:t>¡Hola chicos!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e3d2d"/>
                </a:solidFill>
                <a:latin typeface="Century Gothic"/>
              </a:rPr>
              <a:t>A algunos os conozco de 3º, 4º; otros sois nuevos. Tanto para unos como para otros ( que sé que se olvidan de los nombres de los profesores) me llamo Inmaculada Tallón Robert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e3d2d"/>
                </a:solidFill>
                <a:latin typeface="Century Gothic"/>
              </a:rPr>
              <a:t>Siento no poder iniciar el curso a su debido tiempo, pero espero que me ayudéis siguiendo las instrucciones que os voy a ir dejando en la wiki que vamos a seguir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C:\Users\inma\Pictures\INMA\mías\100_2926.JPG"/>
          <p:cNvPicPr/>
          <p:nvPr/>
        </p:nvPicPr>
        <p:blipFill>
          <a:blip r:embed="rId1"/>
          <a:stretch/>
        </p:blipFill>
        <p:spPr>
          <a:xfrm>
            <a:off x="3098880" y="2133720"/>
            <a:ext cx="2944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Recurso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Libro de Texto: CTMA . </a:t>
            </a:r>
            <a:r>
              <a:rPr b="0" lang="es-ES_tradnl" sz="2400" spc="-1" strike="noStrike">
                <a:solidFill>
                  <a:srgbClr val="3e3d2d"/>
                </a:solidFill>
                <a:latin typeface="Century Gothic"/>
              </a:rPr>
              <a:t>CIENCIAS DE LA TIERRA. Ed. EDITEX  (978-84-9771-401-3)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e3d2d"/>
                </a:solidFill>
                <a:latin typeface="Century Gothic"/>
              </a:rPr>
              <a:t>Exámenes de selectividad que podéis encontrar en enlaces de la wiki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e3d2d"/>
                </a:solidFill>
                <a:latin typeface="Century Gothic"/>
              </a:rPr>
              <a:t>Y, sobre todo, todos los recursos que cuelgue en la wiki: bioellawikiinma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Estructura de la wiki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e3d2d"/>
                </a:solidFill>
                <a:latin typeface="Century Gothic"/>
              </a:rPr>
              <a:t>En primer lugar: Programación con los objetivos y contenidos, criterios de calificación y la temporalización de este curso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e3d2d"/>
                </a:solidFill>
                <a:latin typeface="Century Gothic"/>
              </a:rPr>
              <a:t>Después tema a tema tenemos: PPts de cada tema, actividades y videos relacionados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e3d2d"/>
                </a:solidFill>
                <a:latin typeface="Century Gothic"/>
              </a:rPr>
              <a:t>También hay enlaces a páginas interesantes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Trabajo inicio de curso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e3d2d"/>
                </a:solidFill>
                <a:latin typeface="Century Gothic"/>
              </a:rPr>
              <a:t>Debido a esta ausencia que voy a tener os voy a pedir que me ayudéis iniciando el curso vosotros solos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e3d2d"/>
                </a:solidFill>
                <a:latin typeface="Century Gothic"/>
              </a:rPr>
              <a:t>En primer lugar os pido que leáis el Tema 1 del libro y que lo subrayéis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e3d2d"/>
                </a:solidFill>
                <a:latin typeface="Century Gothic"/>
              </a:rPr>
              <a:t>Hagáis los ejercicios 1 al 11 del texto y los ejercicios 1 al 5 de las actividades finales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e3d2d"/>
                </a:solidFill>
                <a:latin typeface="Century Gothic"/>
              </a:rPr>
              <a:t>Así mismo, actividades colgadas como tema 1 en la wiki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e3d2d"/>
                </a:solidFill>
                <a:latin typeface="Century Gothic"/>
              </a:rPr>
              <a:t>Para terminar: estudiar la presentación del tema 1 con las anotaciones que hagáis del resumen del libro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No os agobiéis, tenéis todas las horas de CTMA para hacerlas hasta que yo pueda volver, que lo voy a hacer lo más rápido posibl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                          </a:t>
            </a: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Hasta pronto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14:59:34Z</dcterms:created>
  <dc:creator>inma</dc:creator>
  <dc:description/>
  <dc:language>en-US</dc:language>
  <cp:lastModifiedBy>inma</cp:lastModifiedBy>
  <dcterms:modified xsi:type="dcterms:W3CDTF">2013-09-09T15:30:55Z</dcterms:modified>
  <cp:revision>6</cp:revision>
  <dc:subject/>
  <dc:title>CIENCIAS DE LA TIERRA Y MEDIO AMBIENTE</dc:title>
</cp:coreProperties>
</file>